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8C34-9F48-48B1-98C9-F54EEFA58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70ED-1010-4DF3-BAAA-71EC5CD5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B05E-8AAA-4CB7-80C1-3306235A5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FF67-C3B2-4505-839A-ADF63305D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BFC3-CCD0-4C1A-902F-79AB00BE0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5094-25E5-4AD5-ADC0-3589750B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10BC-268E-46C9-AC22-84573F66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AFFE-F2B4-4D48-BEBA-E880A746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9090-8476-4DD6-96B6-74908C89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2769B-7A59-42D4-824D-C05F87BA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C26E-2185-48B1-87A4-973C430D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0BA6-8648-469A-A7A1-DF160E4B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E6DF-AB6C-4EAE-AD73-A87D2A0E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FBFE-BD84-41B6-965D-98F9A9A0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1AE2-0F40-4EAE-A58D-8B19BEA2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6031-5448-4DEB-B686-72021737F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AF3AC-980F-4DC5-A8E0-0B9AC7464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383A-1D46-4B67-8CE8-1B442CFE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053B-116F-4C26-858A-CED466A5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A042-7C8D-4500-991E-BA53AA15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0FC6-D831-4A76-B2CE-69A85B27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749B-03A7-48F0-8B15-517350DD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99D9-B6D4-4682-AFB9-1FC9608A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3A3D-26E4-40BF-8408-4DACCE2C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B86A-4CCA-4B27-A869-93E144AB1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1E21-19BC-482A-BC46-4C3E72404A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itch-Then-Plan Video Planning Templat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mportant Tip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alk slowly and clearl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e enthusiasti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actice, Practice and Practi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lax and have fun!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out This Templat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use this template, read then delete all of the slides that have a black background.  Complete the slides that have a blue backgrou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out Entrepreneurshi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o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not learning to do, is the essence of entrepreneurshi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member, no one ever achieved success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lann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or go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hardest thing about getting started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et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ar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an (emerging) entrepreneur, you should always be selling—not strategizing about s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roper Proc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row together a pitch that contains the slides presented in this templat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ry it out on some mentors, friends, and relatives.  Do this about ten time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et the team together in a room and discuss what you have learned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x the pitch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tart writing the script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plain Your Movie in The First Minut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ver has a presentation been given where the audience has said to itself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 wish the speaker had spent the first fifteen minutes explaining his life stor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le you</a:t>
            </a: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 busy warming up, your listeners are inevitably wondering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s your movie abou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everyone a favor:  Answer that question in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irst minu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 Once the audience has learned what you do, they can listen to everything else with a more focused perspectiv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rog 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0" y="312372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minique Sible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B7B4-FDC0-455E-82D3-B36BBA8E58D8}" type="datetime2"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ursday, July 30, 2026</a:t>
            </a:fld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urpo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cribe exactly what you want the user to do after they see your movie. For example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he audience memnbers will be able to name the habitat, adaptation  and environment of the Golden Montazah chick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y to personalize the pit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 Your Ide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 a great story tel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hree act structu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very familiar for fi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 I: Characters and Setting. End with inro of problem/go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 II: Solving the problem. End with Climax: the problem gets solv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 III: Happy ever after p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siness Mode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lain how you make money:  who will see your movi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will your movie be special and differen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20:49:56Z</dcterms:created>
  <dc:creator/>
  <dc:description/>
  <dc:language>en-US</dc:language>
  <cp:lastModifiedBy>City School</cp:lastModifiedBy>
  <dcterms:modified xsi:type="dcterms:W3CDTF">2013-02-19T21:17:02Z</dcterms:modified>
  <cp:revision>38</cp:revision>
  <dc:subject/>
  <dc:title>The Pitch-Then-Plan Business Planning Template</dc:title>
</cp:coreProperties>
</file>